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2CF-3EDB-4333-AC26-63482C2D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9B96-63B8-4830-8A1A-91DF3DBC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336D-F8FD-4022-BD2B-BF490062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B04-A3A6-4BAC-A8FF-680B2618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CDF3-063D-4CBD-BC54-86D899EE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1B83-D83B-458B-9812-D8CE945D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E976-6419-44DE-ACCB-DFE27C4F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FD0F-58A7-4551-8F65-37F6D8A0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B949-9CAE-40C6-817A-E7334EDF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EEBD-E61E-4FD5-A97C-992A062C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ADD8-A72A-41E8-9355-BCBF24DE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0CB-511F-4F13-8E9B-0E73AE20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2A20-B7E7-4C59-893B-67886A0D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1601-1C21-4670-A9E1-5F67BE91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96F4-A33D-48AB-892E-D0F9CEC4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CECA-C239-4C9E-8FA4-69BFF413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C8CE-BF7A-49F6-9C21-2DDF8A38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97B-44C1-4E20-912F-97C9B780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F3E-5D15-4D99-B0E2-89BCB97F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A90-0168-49BA-8FE2-F66F7D60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36DE-129B-4A86-A313-7B8A375C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488-2281-48A4-A612-69FEBE10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6619-3466-4936-8888-D32E02BB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34F-924F-4EED-8046-EFA6A799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73C0-6A21-4344-B8E5-D45A84AF25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D0F9-0F87-4EB4-BCEE-BC2098584E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talesminiatures.com/George%20Washington-G.%20Stuart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okcloseouts.com/images/small/isbn039/0395884012-s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www.maryannweidt.com/books/bk_parks.html" TargetMode="External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graph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Inform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out Real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685800"/>
            <a:ext cx="1814400" cy="2438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1828800" cy="2143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400800" y="3657600"/>
            <a:ext cx="1617840" cy="2057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" y="3657600"/>
            <a:ext cx="180828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3581280" y="51055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3276720" y="457200"/>
            <a:ext cx="26668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graphies have…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information about interesting l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st important accomplishments about a li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about someone famous—but not alway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56080" y="2414520"/>
            <a:ext cx="29782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utobiographies are written BY the person they are ab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graphy is written by someone about ANOTHER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589720" y="2709720"/>
            <a:ext cx="21477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metimes a book just tells you about a part of a person’s lif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2171880"/>
            <a:ext cx="4648320" cy="39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authors are famous for writing biograph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an Fri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Ad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1905120" cy="2457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24440" y="3333600"/>
            <a:ext cx="29512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more books you read about the same person, the more you lear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A Picture Book of Rosa Parks  - Dr. Martin Luther King, Jr. Day Books for Kids"/>
          <p:cNvPicPr/>
          <p:nvPr/>
        </p:nvPicPr>
        <p:blipFill>
          <a:blip r:embed="rId1"/>
          <a:stretch/>
        </p:blipFill>
        <p:spPr>
          <a:xfrm>
            <a:off x="1825560" y="2017800"/>
            <a:ext cx="2529000" cy="1987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If a Bus Could Talk - The Story of Rosa Parks  - Dr. Martin Luther King, Jr. Day Books for Kids"/>
          <p:cNvPicPr/>
          <p:nvPr/>
        </p:nvPicPr>
        <p:blipFill>
          <a:blip r:embed="rId2"/>
          <a:stretch/>
        </p:blipFill>
        <p:spPr>
          <a:xfrm>
            <a:off x="5784840" y="2017800"/>
            <a:ext cx="2527200" cy="1987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371600" y="4191120"/>
            <a:ext cx="1427040" cy="198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Rosa Park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86400" y="4249800"/>
            <a:ext cx="1322640" cy="177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3809880" y="3962520"/>
            <a:ext cx="1535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d a biography that is JUST RIGHT for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can read it (5 finger tes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want to read i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4:46:07Z</dcterms:created>
  <dc:creator>paradisj</dc:creator>
  <dc:description/>
  <dc:language>en-US</dc:language>
  <cp:lastModifiedBy>Judith M Paradis</cp:lastModifiedBy>
  <dcterms:modified xsi:type="dcterms:W3CDTF">2008-01-22T13:51:39Z</dcterms:modified>
  <cp:revision>3</cp:revision>
  <dc:subject/>
  <dc:title>Biographies</dc:title>
</cp:coreProperties>
</file>